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D9C-6A54-4DD3-8B0F-81145BA5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D05-68E7-46B6-AA22-3E736E5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A3B-A5FB-4B52-8C4A-E595FA6A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750-3674-4C83-8595-906C1F42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67EF-A870-47EF-91B7-F5E3BFCF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3611-E8B6-4349-80B3-E365805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3BE-BCE4-42DA-A1AC-CA41EB3E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30B8-C378-4F58-8BC0-57AC5DF1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033D-19AD-425D-A16A-5545E6F5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9D1D-FD69-48A6-B9D9-CA273A6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5A98-C89B-4952-9515-379200E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552-A37F-4FFD-A229-3946AA7A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5784-E189-4F6D-90FA-40C8007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69C4-1493-4A0B-92AD-35DF8C6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596-7DE3-4329-AF4B-25B0FE7E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8E88-F4A9-455C-8BFE-06D22E84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E95-57AD-4CDC-8D8C-BE2103BA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2F9-FF00-4FF8-8016-35EDC79C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698-E683-423C-9A8B-2C9E6E13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5B6-E95D-402B-AC07-3A95BBF8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787-AF09-455D-BE4D-C91A3D4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214-E6F0-477C-BC8F-CD7E1A6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9E8-E7D8-4131-9020-498423B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C97-D8A3-4777-BD03-37192F03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435-093D-42CF-BF3C-3D1BEEBF2581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66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D873-9261-4E44-AF9B-A59D154DE72F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9ddf1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227160" algn="ctr">
              <a:spcBef>
                <a:spcPts val="601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19Z</dcterms:modified>
  <cp:revision>57</cp:revision>
  <dc:subject/>
  <dc:title>幻灯片 1</dc:title>
</cp:coreProperties>
</file>